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1A78-6A0A-4EB6-80DD-6F4CB6D2F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F3EF-A62B-40E4-8F43-CCAE73F62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3E9D-94D7-490F-8169-7AEA8472E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3A22-B1F0-417E-8661-2D0FE800B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707C-90DB-4ECD-9BC2-D486D4670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8D9B-B594-4AEC-96A0-F479CBA21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B2AD-279E-4044-B82F-DE8A9083E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4A91-2589-4FD1-93C4-C55E5B02E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702F4-0CA1-4202-BD12-EC161047C7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20D3D-EFE6-4E18-A786-1808474D6D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A7BAD-7261-4D50-8940-4D6B7A9DDD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EC9F0-774F-4B6B-8BB5-50B7A019DB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11001-3D93-40CF-9694-152810734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6037F-6FC5-4B6E-83A0-49C00DCC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3240CD-78BB-4A52-B17E-6CBEB6D1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C057B-5448-452E-A94B-683C61AF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58E0C3-D244-4111-82AF-BF473AC9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E71FE4-DBD1-4814-9C00-6462C701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908C0-2C40-4711-93C4-50191A10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D9B94-76AD-4C6C-A217-051F11E472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9655D5-DDC9-4247-9826-DEA8A905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3F3DA-1F4D-456C-8F3C-DB6F00DE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256AE-AC37-4CFA-A4A1-900DEAFB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665309-6DD0-42E4-A370-8ACE3A868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250605-AB3E-42A8-B285-097BBF24D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CFC4C-17E3-4F3B-98A2-CB4732909D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F32FE-CFAB-4F5F-AB38-139B1BC9A0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C8B88-2BE3-45BC-BD3D-18DC966471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D6134-573F-4448-A495-F0867EFE64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F34B8-8068-409B-8FF6-B920725B13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9637E-BCFB-4ACB-8042-635165C577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340DF-31B2-4640-8190-5C08197278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89D4-CB60-4C3E-A8BA-043149A664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4E60-200F-4BA7-B260-AB8BCA30CC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3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4C44-5454-44F3-B18D-D11D64AFB1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9" name="Rectangle 8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9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Group 10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2" name="Rectangle 11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6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7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8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19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0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Text Box 21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Aides visuel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2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5F42-C8E1-4F83-BB3E-6305C7A931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visual_sop"/>
          <p:cNvPicPr/>
          <p:nvPr/>
        </p:nvPicPr>
        <p:blipFill>
          <a:blip r:embed="rId1"/>
          <a:srcRect l="51824" t="0" r="0" b="0"/>
          <a:stretch/>
        </p:blipFill>
        <p:spPr>
          <a:xfrm>
            <a:off x="4724280" y="946080"/>
            <a:ext cx="4025880" cy="49658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533520" y="1549440"/>
            <a:ext cx="3886200" cy="39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« Une image vaut 1000 mots 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enser aux </a:t>
            </a:r>
            <a:r>
              <a:rPr b="0" lang="fr-FR" sz="2800" spc="-1" strike="noStrike">
                <a:solidFill>
                  <a:srgbClr val="9999ff"/>
                </a:solidFill>
                <a:latin typeface="Arial"/>
              </a:rPr>
              <a:t>aides visuell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afin d’aider à renforcer la conformité aux nouvelles procé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5"/>
          <p:cNvSpPr/>
          <p:nvPr/>
        </p:nvSpPr>
        <p:spPr>
          <a:xfrm>
            <a:off x="6781680" y="2133720"/>
            <a:ext cx="2362320" cy="82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S’assurer que l’étiquet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est juste en dessous du capuch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6"/>
          <p:cNvSpPr/>
          <p:nvPr/>
        </p:nvSpPr>
        <p:spPr>
          <a:xfrm>
            <a:off x="6781680" y="2819520"/>
            <a:ext cx="2362320" cy="100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ette étiquette est presque droite, a un code bar propre et aucun surplus ne dépasse le tour du tu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7"/>
          <p:cNvSpPr/>
          <p:nvPr/>
        </p:nvSpPr>
        <p:spPr>
          <a:xfrm>
            <a:off x="6781680" y="4611600"/>
            <a:ext cx="2362320" cy="82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ette étiquette ne s’étend pas jusqu’à l’extrémité inférieur du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8"/>
          <p:cNvSpPr/>
          <p:nvPr/>
        </p:nvSpPr>
        <p:spPr>
          <a:xfrm>
            <a:off x="4952880" y="5667480"/>
            <a:ext cx="236232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Etiquette correc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5338-DDA8-46CD-82DF-029F4D4CB0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4" descr="specimen_visual_aid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0" y="716040"/>
            <a:ext cx="91440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ide visuelle permettant de déterminer le volume suffisant de sé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429000" y="1295280"/>
            <a:ext cx="5715000" cy="502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a mesure visuelle, afin de déterminer si le spécimen est au dessous de la limite de 2,5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enir le spécimen contre la carte visuelle de me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ligner le gel séparateur a la ligne du b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 utilisant la ligne du haut, déterminer s’il y a plus ou moins 2,5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oneTexte 8"/>
          <p:cNvSpPr/>
          <p:nvPr/>
        </p:nvSpPr>
        <p:spPr>
          <a:xfrm>
            <a:off x="1981080" y="3581280"/>
            <a:ext cx="83844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7DDF-D81B-4B87-A91C-171F68EF1A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4" descr="sample_management_1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ide visuelle déterminant l’acceptabilité du spéci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457200" y="1523880"/>
            <a:ext cx="34290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’il y a 2,5 cm ou plus de sérum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4191120" y="1371600"/>
            <a:ext cx="472428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mballer le spécimen et le transporter comme d’hab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oneTexte 9"/>
          <p:cNvSpPr/>
          <p:nvPr/>
        </p:nvSpPr>
        <p:spPr>
          <a:xfrm>
            <a:off x="3505320" y="3882960"/>
            <a:ext cx="83808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3540-AF54-4D4C-8A54-6080219382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4" descr="sample_management_acceptability_2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0" y="1447920"/>
            <a:ext cx="40384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is, s’il y a moins de 2,5 cm de sé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4038480" y="1219320"/>
            <a:ext cx="510552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rquer le haut du tube avec un X et emballer le spécimen dans une boîte priorit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ide visuelle déterminant l’acceptabilité du spéci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oneTexte 9"/>
          <p:cNvSpPr/>
          <p:nvPr/>
        </p:nvSpPr>
        <p:spPr>
          <a:xfrm>
            <a:off x="3124080" y="3882960"/>
            <a:ext cx="83844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D398-233D-483C-B8F7-00F1718780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5_finger_prick_job_aid"/>
          <p:cNvPicPr/>
          <p:nvPr/>
        </p:nvPicPr>
        <p:blipFill>
          <a:blip r:embed="rId1"/>
          <a:stretch/>
        </p:blipFill>
        <p:spPr>
          <a:xfrm>
            <a:off x="1781280" y="0"/>
            <a:ext cx="523692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6FD3-311E-4D08-8E6B-509D9BF9C8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5_venipuncture_cdc_who"/>
          <p:cNvPicPr/>
          <p:nvPr/>
        </p:nvPicPr>
        <p:blipFill>
          <a:blip r:embed="rId1"/>
          <a:stretch/>
        </p:blipFill>
        <p:spPr>
          <a:xfrm>
            <a:off x="1733400" y="0"/>
            <a:ext cx="528984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dolmazonv</cp:lastModifiedBy>
  <dcterms:modified xsi:type="dcterms:W3CDTF">2010-04-08T14:53:07Z</dcterms:modified>
  <cp:revision>9</cp:revision>
  <dc:subject/>
  <dc:title>Quality Manual Structure and Contents</dc:title>
</cp:coreProperties>
</file>